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43466"/>
        <c:axId val="79507469"/>
      </c:barChart>
      <c:catAx>
        <c:axId val="42143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07469"/>
        <c:crosses val="autoZero"/>
        <c:auto val="1"/>
        <c:lblAlgn val="ctr"/>
        <c:lblOffset val="100"/>
        <c:noMultiLvlLbl val="0"/>
      </c:catAx>
      <c:valAx>
        <c:axId val="79507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43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4A0-E4E6-4537-86E9-CD6B5F00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124-A2B2-4453-952D-496A6FA7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86A-A332-4D9B-B51F-5C2F73CA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01C-0459-4E01-871D-207A6B3A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F8F-A027-472A-9C7D-28A6F0BA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D41-A929-4112-B3BA-1528F08A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AF3-4405-4744-9BA9-3E76FE50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CA4-FC27-4154-ABE2-2A4BA34B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3EA-AFBD-4807-B125-2E142554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86F-D9BF-477D-8ACA-0628CEEA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D8C-61D2-4508-87AB-BA6971B7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F4E-2AE4-4471-8538-65B96698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6D855-4B5F-4AA9-B4B5-AE37BE0F07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