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29997"/>
        <c:axId val="52156526"/>
      </c:barChart>
      <c:catAx>
        <c:axId val="180299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56526"/>
        <c:crosses val="autoZero"/>
        <c:auto val="1"/>
        <c:lblAlgn val="ctr"/>
        <c:lblOffset val="100"/>
        <c:noMultiLvlLbl val="0"/>
      </c:catAx>
      <c:valAx>
        <c:axId val="52156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299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316-212E-4EB0-8B37-B7743616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87A-170A-467A-87D5-40443B30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B56-64B9-41E2-ADAA-DB83343C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0CD-CA69-4B1B-B674-DA9616C4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470A-D5CD-4AAD-857E-143F6230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77F-1C5C-41B8-9CBF-D843A0BB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5A0-6341-4427-97F2-C61AD8E3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882D-ACE6-43DF-9B08-63A020EE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68E-6AC8-4F67-85AD-27213F20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9A4-AEE4-48A5-AF65-DB10120D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D917-80B7-439F-BE53-23826576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F29-199B-4194-86BC-44414DEC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6E595-5DE4-4E93-9B1B-C17262CF43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