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15889"/>
        <c:axId val="34190232"/>
      </c:barChart>
      <c:catAx>
        <c:axId val="71315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90232"/>
        <c:crosses val="autoZero"/>
        <c:auto val="1"/>
        <c:lblAlgn val="ctr"/>
        <c:lblOffset val="100"/>
        <c:noMultiLvlLbl val="0"/>
      </c:catAx>
      <c:valAx>
        <c:axId val="34190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15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5C6-0DFE-43FD-8081-AB1B385A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541B-CD64-46B0-A352-80379C98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E34-40CD-4B11-8EF6-8449DB8F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D1B-3BAD-410B-8C0F-655A09CB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AD1-D587-4A01-82BA-67D03465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C78-52F3-48CC-B8C4-C225BCCF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61E-7AED-450B-8E08-F26C6102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1CFA-56BA-4E13-BC22-1B7313B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9EBE-A0F6-4E2A-8B07-05C285F1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5A8-65BA-49C2-9EAE-2079CF0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E65-6048-4C71-85D1-F82C9A7D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1CF-5D56-432D-A1E2-1A0E35C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DD4A2-B8C0-4377-8DAA-7374E779E1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