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213528"/>
        <c:axId val="27186534"/>
      </c:barChart>
      <c:catAx>
        <c:axId val="292135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186534"/>
        <c:crosses val="autoZero"/>
        <c:auto val="1"/>
        <c:lblAlgn val="ctr"/>
        <c:lblOffset val="100"/>
        <c:noMultiLvlLbl val="0"/>
      </c:catAx>
      <c:valAx>
        <c:axId val="271865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135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16B9-64DB-4AB9-882B-F63016DC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C768-4311-4C7F-BB13-D80FFE65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696C-FFE4-4282-94DA-796BD16DC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3C2F-6713-4EB5-B89B-D23F5D013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EA4B-9747-430D-AF50-9C6E0475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070F-CE9E-4F70-8420-54CEA05A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0BE3-9615-4F8E-B3AE-6FDCFFAD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BEEE-EA95-4706-B4B3-058E81FB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BB76-D521-43C8-8268-167E0A3F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BA80-5A29-4407-8B90-04772022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1F7F-ED2C-4288-8095-5AE0B94C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D767-B723-44F0-9563-47A20C25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D6FE2-15BA-4B59-9BD8-59C412EE41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